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594-19AD-45DF-BCCF-300D8DCA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D74-2DA7-4A9D-9EED-0EF7E56C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6A8-C126-4FB1-8719-ABDAB7A8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B9C-70CB-4D4D-9A03-CA71345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A6C-EC64-48E8-8523-308302B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CA6-E8A6-43A1-973B-83E3283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8C3-3BE5-41A6-BA86-57646C3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66E-5B9C-4D16-9A3C-1798DF0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006-9B05-4118-8478-3039DBF2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402-D0A7-4717-A53E-01A92B3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17C-AE87-4728-BF5F-0BC6D5A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EF1-6BB7-43C6-A5DF-BF78F21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69D-69F5-48F8-AAE3-19F3A2ADB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612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DE VALMONT Char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6960" y="640080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FERGUSON Alexa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6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So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HP, client autorisé</cp:lastModifiedBy>
  <dcterms:modified xsi:type="dcterms:W3CDTF">2001-12-02T02:01:01Z</dcterms:modified>
  <cp:revision>12</cp:revision>
  <dc:subject/>
  <dc:title>Présentation PowerPoint</dc:title>
</cp:coreProperties>
</file>